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466-AF78-4F9D-9A0E-399E16D6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2FC-B1D6-4255-BFA6-47E041E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BD8-DC3E-42CF-AB55-2513CA7C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2B4-6C50-4C15-B50D-66B9AC48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1D9-EC13-4AB5-BF61-A1715C7D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FA3-3A4B-4337-A2DB-9C06364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AEF-AB54-41AD-BDD2-639F3279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69B-0F3E-4F28-9D92-AD2C99E1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625-5432-4CAD-A1BB-73FA6EB9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929-89D3-4C4F-A3E3-7551038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7EB-BEC4-41BD-AE67-79808A88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2A7-E008-4ADF-B89D-971E31D8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3BDE-FAE9-4C26-AB03-5ED1836E6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Fractio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71629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raction of the following shape is shade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16002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(a)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2120" y="1905120"/>
            <a:ext cx="1828800" cy="1371600"/>
            <a:chOff x="762120" y="1905120"/>
            <a:chExt cx="1828800" cy="1371600"/>
          </a:xfrm>
        </p:grpSpPr>
        <p:grpSp>
          <p:nvGrpSpPr>
            <p:cNvPr id="45" name=""/>
            <p:cNvGrpSpPr/>
            <p:nvPr/>
          </p:nvGrpSpPr>
          <p:grpSpPr>
            <a:xfrm>
              <a:off x="762120" y="1905120"/>
              <a:ext cx="1828800" cy="457200"/>
              <a:chOff x="762120" y="1905120"/>
              <a:chExt cx="1828800" cy="457200"/>
            </a:xfrm>
          </p:grpSpPr>
          <p:sp>
            <p:nvSpPr>
              <p:cNvPr id="46" name=""/>
              <p:cNvSpPr/>
              <p:nvPr/>
            </p:nvSpPr>
            <p:spPr>
              <a:xfrm>
                <a:off x="7621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2193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765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905120"/>
                <a:ext cx="457200" cy="45720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762120" y="2362320"/>
              <a:ext cx="1828800" cy="457200"/>
              <a:chOff x="762120" y="2362320"/>
              <a:chExt cx="1828800" cy="45720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93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6765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133720" y="23623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762120" y="2819520"/>
              <a:ext cx="1828800" cy="457200"/>
              <a:chOff x="762120" y="2819520"/>
              <a:chExt cx="1828800" cy="457200"/>
            </a:xfrm>
          </p:grpSpPr>
          <p:sp>
            <p:nvSpPr>
              <p:cNvPr id="56" name=""/>
              <p:cNvSpPr/>
              <p:nvPr/>
            </p:nvSpPr>
            <p:spPr>
              <a:xfrm>
                <a:off x="7621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93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65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33720" y="2819520"/>
                <a:ext cx="457200" cy="457200"/>
              </a:xfrm>
              <a:prstGeom prst="rect">
                <a:avLst/>
              </a:prstGeom>
              <a:solidFill>
                <a:srgbClr val="99ff3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1981080" y="1219320"/>
            <a:ext cx="609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733920"/>
            <a:ext cx="1371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91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17524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(a)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321640" y="4579200"/>
            <a:ext cx="2043360" cy="1833840"/>
            <a:chOff x="2321640" y="4579200"/>
            <a:chExt cx="2043360" cy="1833840"/>
          </a:xfrm>
        </p:grpSpPr>
        <p:sp>
          <p:nvSpPr>
            <p:cNvPr id="65" name=""/>
            <p:cNvSpPr/>
            <p:nvPr/>
          </p:nvSpPr>
          <p:spPr>
            <a:xfrm rot="76800">
              <a:off x="2895120" y="5518440"/>
              <a:ext cx="914400" cy="8820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321640" y="4579200"/>
              <a:ext cx="2043360" cy="1833840"/>
              <a:chOff x="2321640" y="4579200"/>
              <a:chExt cx="2043360" cy="1833840"/>
            </a:xfrm>
          </p:grpSpPr>
          <p:sp>
            <p:nvSpPr>
              <p:cNvPr id="67" name=""/>
              <p:cNvSpPr/>
              <p:nvPr/>
            </p:nvSpPr>
            <p:spPr>
              <a:xfrm rot="18542400">
                <a:off x="3276720" y="5325120"/>
                <a:ext cx="882360" cy="9144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5300000">
                <a:off x="3368520" y="4972320"/>
                <a:ext cx="881640" cy="91368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2200400">
                <a:off x="3078000" y="4723920"/>
                <a:ext cx="913680" cy="8816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9539400">
                <a:off x="2711880" y="4723560"/>
                <a:ext cx="914400" cy="88164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16000">
                <a:off x="2454480" y="4972320"/>
                <a:ext cx="881640" cy="9144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244800">
                <a:off x="2545200" y="5325120"/>
                <a:ext cx="882360" cy="91368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838080" y="5334120"/>
            <a:ext cx="838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5880"/>
            <a:ext cx="12952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601992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914400"/>
            <a:ext cx="167616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(a)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191120" y="1676520"/>
            <a:ext cx="3962160" cy="1218600"/>
            <a:chOff x="4191120" y="1676520"/>
            <a:chExt cx="3962160" cy="1218600"/>
          </a:xfrm>
        </p:grpSpPr>
        <p:sp>
          <p:nvSpPr>
            <p:cNvPr id="78" name=""/>
            <p:cNvSpPr/>
            <p:nvPr/>
          </p:nvSpPr>
          <p:spPr>
            <a:xfrm>
              <a:off x="51055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60199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920" y="228564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5105520" y="228528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6934320" y="228528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4191120" y="1676520"/>
              <a:ext cx="1218960" cy="60912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120"/>
                <a:gd name="textAreaBottom" fmla="*/ 47520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91120" y="2285640"/>
              <a:ext cx="1218960" cy="609480"/>
            </a:xfrm>
            <a:custGeom>
              <a:avLst/>
              <a:gdLst>
                <a:gd name="textAreaLeft" fmla="*/ 267840 w 1218960"/>
                <a:gd name="textAreaRight" fmla="*/ 951120 w 1218960"/>
                <a:gd name="textAreaTop" fmla="*/ 133920 h 609480"/>
                <a:gd name="textAreaBottom" fmla="*/ 475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934320" y="9144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8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276720"/>
            <a:ext cx="16765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31240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8=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343400"/>
            <a:ext cx="27432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Green or oran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1055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8 = 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16:55:19Z</dcterms:created>
  <dc:creator>LT Scotland</dc:creator>
  <dc:description/>
  <dc:language>en-US</dc:language>
  <cp:lastModifiedBy>Computing Department</cp:lastModifiedBy>
  <dcterms:modified xsi:type="dcterms:W3CDTF">2004-09-13T07:18:51Z</dcterms:modified>
  <cp:revision>3</cp:revision>
  <dc:subject/>
  <dc:title>Access 3 Mathematics: Unit 1 Outcome 1 - What Fraction ?</dc:title>
</cp:coreProperties>
</file>